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3345-E72A-47BC-A6E1-50492F415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F29B-C73C-4108-A30E-ABB9B55C9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F685-509B-4F88-9083-142BADC7D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B6A-95F2-4153-A752-8DA5DD745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CA90-752B-4FD0-AD22-3B97DB53E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5F40-BE4F-4581-B499-1D202F452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-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 conferences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rating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f Teacher Evalu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e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8E38-2DDD-444F-9E7A-69DCFA43F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-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 conferences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rating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f Teacher Evalu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e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7650-259E-401C-8A91-D24BB6EBA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me examples they might list for “Where are we now?” might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rong 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amiliarity with AC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gital learning resources/opportunities fo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BT Train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 plan for implementation of Additional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C FAL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B67D-F4E8-491C-813B-FDE11BC9F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31B5-4580-486E-B9EA-187455E37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D6CE-B75F-4D25-8B3C-6607D7A08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dio:  Today, we encourage you to use Today’s Meet, our live chat to make comments and ask questions that will help meet the needs of your LEA/Charter.  Get started by using your iPad, Laptop, or smart phone to access the website you see on this slide (say website alou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ou will be asked to provide your name and your LEA/Charter, and then you can join our live c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1B3-1F6B-44E8-AF21-F6527796D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B35-8200-4569-9344-3F2412208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D0EE-B08B-46FD-A2AB-CA835ADBA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51C-BF96-4F1A-B9DB-12F408148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C4A6-A9A6-46F1-BE4C-EFFD2C65B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6856-2F3C-464B-82EA-56ABF9ADC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566E-7309-4D9A-BC98-EFAC2E128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6F58-FB79-4BE7-BBD3-85EAD877A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4582-10B1-467C-843A-10737B7BA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7630-E054-49CA-A40C-DCB8A8C0A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23F4-8BF0-40B4-8658-F014C73287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7BB5-FB9D-4E51-B23F-69E74C5122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6B0C-39DE-42B4-B3C7-AA0FF58130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EBE6-D00B-4A28-9CAC-0E3E032870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3165-C9CB-47F2-8E2D-A08AED194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EB1E-E789-4571-AF08-89BC25D148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2B8D-2E6F-4785-9903-85F7BD46F0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E30F-5782-458D-B2F4-3C85DF92F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52BA-B51C-419E-9DA8-AC6EFE4A69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41CF-DEBC-4F0B-9A5A-17CC8E884B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E47A-94DE-4AB7-BC94-D31F15A111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B849-35C8-4D79-862D-1B644F1AA4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C2CC-5753-4938-A9E7-A26AE0B6F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2C4C-C9AD-4A62-8AB5-ED59B9629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8A0A-F7BD-4603-A9D1-24121CDC4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E0EC-F66D-4E63-B0E6-2EC029D93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FBBD-03E8-40D3-9371-242901045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AE43-F2EB-4E43-9A45-C031DE57A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0CBC-23F7-4555-9FD8-A41EC2D00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5EAC-4936-4E79-A4CB-A56158EB3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EC52-DA4E-44C8-BCBF-445FE001AECF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WhitebackPPTCover3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0EE5-E0E1-4DD3-8B93-4C9958DB9EBC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5840" y="1447920"/>
            <a:ext cx="487692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bc36"/>
                </a:solidFill>
                <a:latin typeface="Arial"/>
              </a:rPr>
              <a:t>NC Online Evaluation System Training</a:t>
            </a:r>
            <a:endParaRPr b="1" lang="en-US" sz="40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Ocracoke School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Hyde County Public Schools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October 6, 2011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http://region1rttt.wikispaces.com/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  <p:pic>
        <p:nvPicPr>
          <p:cNvPr id="89" name="Picture 5" descr="blackscreenslogo_centertext.gif"/>
          <p:cNvPicPr/>
          <p:nvPr/>
        </p:nvPicPr>
        <p:blipFill>
          <a:blip r:embed="rId1"/>
          <a:stretch/>
        </p:blipFill>
        <p:spPr>
          <a:xfrm>
            <a:off x="152280" y="1600200"/>
            <a:ext cx="2970360" cy="272088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52D-EA72-4A6B-BF6B-FA73DCA7F6DF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Annual Evaluation Policy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2949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376"/>
                </a:solidFill>
                <a:latin typeface="Arial"/>
              </a:rPr>
              <a:t>Each local board shall adopt a policy requiring career teachers to be evaluated annually.  The annual evaluation requirements shall be met by either:</a:t>
            </a: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(1) Using the Teacher Evaluation Process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    as set forth in 16 NCAC 6C.0503; or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(2) Using an abbreviated evaluation 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    consisting of Standards One, Four, and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ix of the Teacher Evaluation Process.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The Sixth Standard for Teachers: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0" t="16851" r="0" b="0"/>
          <a:stretch/>
        </p:blipFill>
        <p:spPr>
          <a:xfrm>
            <a:off x="447840" y="1384200"/>
            <a:ext cx="823896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Diagram 5" descr=""/>
          <p:cNvPicPr/>
          <p:nvPr/>
        </p:nvPicPr>
        <p:blipFill>
          <a:blip r:embed="rId1"/>
          <a:stretch/>
        </p:blipFill>
        <p:spPr>
          <a:xfrm>
            <a:off x="901800" y="1030320"/>
            <a:ext cx="7188120" cy="2700360"/>
          </a:xfrm>
          <a:prstGeom prst="rect">
            <a:avLst/>
          </a:prstGeom>
          <a:ln w="0">
            <a:noFill/>
          </a:ln>
        </p:spPr>
      </p:pic>
      <p:pic>
        <p:nvPicPr>
          <p:cNvPr id="131" name="Diagram 7" descr=""/>
          <p:cNvPicPr/>
          <p:nvPr/>
        </p:nvPicPr>
        <p:blipFill>
          <a:blip r:embed="rId2"/>
          <a:stretch/>
        </p:blipFill>
        <p:spPr>
          <a:xfrm>
            <a:off x="901800" y="3700440"/>
            <a:ext cx="7188120" cy="270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578960" y="30492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 Teac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Online Module</a:t>
            </a:r>
            <a:br>
              <a:rPr sz="3800"/>
            </a:b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https://center.ncsu.edu/nc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Getting Started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https://mxweb3.media-x.com/home/ncval/demo/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376"/>
                </a:solidFill>
                <a:latin typeface="Arial"/>
              </a:rPr>
              <a:t>Username: teacherdemo(#1-40) </a:t>
            </a: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376"/>
                </a:solidFill>
                <a:latin typeface="Arial"/>
              </a:rPr>
              <a:t>Password:  123456</a:t>
            </a: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601F-D0E1-4982-B94A-5A424AC1EFE6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4544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Login to the “Live Site”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37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4376"/>
                </a:solidFill>
                <a:latin typeface="Arial"/>
              </a:rPr>
              <a:t>https://mxweb.media-x.com/home/ncval</a:t>
            </a: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376"/>
                </a:solidFill>
                <a:latin typeface="Arial"/>
              </a:rPr>
              <a:t>Username: UID #</a:t>
            </a: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376"/>
                </a:solidFill>
                <a:latin typeface="Arial"/>
              </a:rPr>
              <a:t>Password:  Personal Password</a:t>
            </a: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4B8B-F29C-4491-9ED7-16921123DB41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1692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6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3822840" cy="4505400"/>
          </a:xfrm>
          <a:prstGeom prst="rect">
            <a:avLst/>
          </a:prstGeom>
          <a:ln w="0">
            <a:noFill/>
          </a:ln>
        </p:spPr>
      </p:pic>
      <p:pic>
        <p:nvPicPr>
          <p:cNvPr id="144" name="Content Placeholder 7" descr=""/>
          <p:cNvPicPr/>
          <p:nvPr/>
        </p:nvPicPr>
        <p:blipFill>
          <a:blip r:embed="rId2"/>
          <a:stretch/>
        </p:blipFill>
        <p:spPr>
          <a:xfrm>
            <a:off x="298440" y="682560"/>
            <a:ext cx="8242200" cy="5254560"/>
          </a:xfrm>
          <a:prstGeom prst="rect">
            <a:avLst/>
          </a:prstGeom>
          <a:ln w="0">
            <a:noFill/>
          </a:ln>
        </p:spPr>
      </p:pic>
      <p:sp>
        <p:nvSpPr>
          <p:cNvPr id="145" name="Line Callout 1 10"/>
          <p:cNvSpPr/>
          <p:nvPr/>
        </p:nvSpPr>
        <p:spPr>
          <a:xfrm>
            <a:off x="5638680" y="838080"/>
            <a:ext cx="3200400" cy="2667240"/>
          </a:xfrm>
          <a:prstGeom prst="borderCallout1">
            <a:avLst>
              <a:gd name="adj1" fmla="val 18750"/>
              <a:gd name="adj2" fmla="val -8333"/>
              <a:gd name="adj3" fmla="val 49925"/>
              <a:gd name="adj4" fmla="val -26337"/>
            </a:avLst>
          </a:prstGeom>
          <a:solidFill>
            <a:srgbClr val="9c9cdf">
              <a:alpha val="6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 can create a culture of learning to support the implementation of the Common Core State Standards and North Carolina Essential Standards with fidelity by Fall 2012-1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bc36"/>
                </a:solidFill>
                <a:latin typeface="Arial"/>
                <a:ea typeface="Arial"/>
              </a:rPr>
              <a:t>Possible PDP Goal</a:t>
            </a:r>
            <a:endParaRPr b="1" lang="en-US" sz="36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EE80-B062-4AC8-A8C6-DE0169740853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questions.jpg"/>
          <p:cNvPicPr/>
          <p:nvPr/>
        </p:nvPicPr>
        <p:blipFill>
          <a:blip r:embed="rId1"/>
          <a:stretch/>
        </p:blipFill>
        <p:spPr>
          <a:xfrm>
            <a:off x="990720" y="685800"/>
            <a:ext cx="6949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Need Help?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Questions about NC Educator Evaluation Tools?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376"/>
                </a:solidFill>
                <a:latin typeface="Arial"/>
              </a:rPr>
              <a:t>Contact Region 1 PD Leads </a:t>
            </a:r>
            <a:endParaRPr b="0" lang="en-US" sz="24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Dianne Meiggs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dianne.meiggs@dpi.nc.gov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252-340-0113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Beth Edwards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elizabeth.edwards@dpi.nc.gov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252-916-6842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ining Materials located @ www.ncpublicschools.org/profdev/training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16AA-A1C1-4FE7-96BB-4D82E5258F3A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 rot="20986200">
            <a:off x="6490800" y="210600"/>
            <a:ext cx="2529000" cy="1619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Ticket out the Door</a:t>
            </a:r>
            <a:endParaRPr b="1" lang="en-US" sz="4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376"/>
                </a:solidFill>
                <a:latin typeface="Arial Narrow"/>
              </a:rPr>
              <a:t>You may complete the </a:t>
            </a: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4376"/>
                </a:solidFill>
                <a:latin typeface="Arial Narrow"/>
              </a:rPr>
              <a:t>Ticket out the Door </a:t>
            </a: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376"/>
                </a:solidFill>
                <a:latin typeface="Arial Narrow"/>
              </a:rPr>
              <a:t>by clicking below</a:t>
            </a: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376"/>
                </a:solidFill>
                <a:latin typeface="Arial Narrow"/>
              </a:rPr>
              <a:t>Reflection</a:t>
            </a: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7238880" y="6324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ttp://www.psdgraphics.com/backgrounds/sticky-note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 rot="20588400">
            <a:off x="7054200" y="809640"/>
            <a:ext cx="145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do I Need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2bc36"/>
                </a:solidFill>
                <a:latin typeface="Arial"/>
              </a:rPr>
              <a:t>Today’s Meet</a:t>
            </a:r>
            <a:br>
              <a:rPr sz="3400"/>
            </a:br>
            <a:r>
              <a:rPr b="1" lang="en-US" sz="3400" spc="-1" strike="noStrike">
                <a:solidFill>
                  <a:srgbClr val="a2bc36"/>
                </a:solidFill>
                <a:latin typeface="Arial"/>
              </a:rPr>
              <a:t>http://todaysmeet.com/Ocracoke</a:t>
            </a:r>
            <a:br>
              <a:rPr sz="3400"/>
            </a:br>
            <a:r>
              <a:rPr b="1" lang="en-US" sz="3400" spc="-1" strike="noStrike">
                <a:solidFill>
                  <a:srgbClr val="a2bc36"/>
                </a:solidFill>
                <a:latin typeface="Arial"/>
              </a:rPr>
              <a:t> </a:t>
            </a:r>
            <a:br>
              <a:rPr sz="3400"/>
            </a:br>
            <a:endParaRPr b="1" lang="en-US" sz="34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87320" y="1828800"/>
            <a:ext cx="739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Our Purpos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o provide you with an overview on the use of the online North Carolina Educator Evaluation System (NCEES) and practice with the online demo.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F9B3-735D-4685-9B01-5CFE48ABEDF5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MP900443455.JPG"/>
          <p:cNvPicPr/>
          <p:nvPr/>
        </p:nvPicPr>
        <p:blipFill>
          <a:blip r:embed="rId1"/>
          <a:stretch/>
        </p:blipFill>
        <p:spPr>
          <a:xfrm>
            <a:off x="4800600" y="3556080"/>
            <a:ext cx="3586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bc36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Introduction – Getting to Know You!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Review of Evaluation Proces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Practice using the Online Evaluation System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osing / Q&amp;A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icket out the Door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9F41-F726-4968-91D2-FD244CBF9D4A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eedwards\AppData\Local\Microsoft\Windows\Temporary Internet Files\Content.IE5\PR30TM4L\MP900401668[1].jpg"/>
          <p:cNvPicPr/>
          <p:nvPr/>
        </p:nvPicPr>
        <p:blipFill>
          <a:blip r:embed="rId1"/>
          <a:stretch/>
        </p:blipFill>
        <p:spPr>
          <a:xfrm>
            <a:off x="4876920" y="3505320"/>
            <a:ext cx="37494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Placeholder 4" descr="Teaching Standards.png"/>
          <p:cNvPicPr/>
          <p:nvPr/>
        </p:nvPicPr>
        <p:blipFill>
          <a:blip r:embed="rId1"/>
          <a:srcRect l="0" t="20108" r="0" b="20108"/>
          <a:stretch/>
        </p:blipFill>
        <p:spPr>
          <a:xfrm>
            <a:off x="304920" y="1447920"/>
            <a:ext cx="19810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198432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3733920" y="1523880"/>
            <a:ext cx="218124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Right Arrow 9"/>
          <p:cNvSpPr/>
          <p:nvPr/>
        </p:nvSpPr>
        <p:spPr>
          <a:xfrm>
            <a:off x="2743200" y="3124080"/>
            <a:ext cx="9907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ight Arrow 10"/>
          <p:cNvSpPr/>
          <p:nvPr/>
        </p:nvSpPr>
        <p:spPr>
          <a:xfrm>
            <a:off x="6019920" y="3124080"/>
            <a:ext cx="990360" cy="60984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666666"/>
          </a:solidFill>
          <a:ln w="93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ight Brace 12"/>
          <p:cNvSpPr/>
          <p:nvPr/>
        </p:nvSpPr>
        <p:spPr>
          <a:xfrm>
            <a:off x="2362320" y="1676520"/>
            <a:ext cx="457200" cy="35812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3581280"/>
              <a:gd name="textAreaBottom" fmla="*/ 356940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5"/>
                  <a:pt x="10800" y="230"/>
                </a:cubicBezTo>
                <a:lnTo>
                  <a:pt x="10800" y="10570"/>
                </a:lnTo>
                <a:cubicBezTo>
                  <a:pt x="10800" y="10685"/>
                  <a:pt x="16200" y="10800"/>
                  <a:pt x="21600" y="10800"/>
                </a:cubicBezTo>
                <a:cubicBezTo>
                  <a:pt x="16200" y="10800"/>
                  <a:pt x="10800" y="10915"/>
                  <a:pt x="10800" y="11030"/>
                </a:cubicBezTo>
                <a:lnTo>
                  <a:pt x="10800" y="21370"/>
                </a:lnTo>
                <a:cubicBezTo>
                  <a:pt x="10800" y="2148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943600" y="3276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3048120" y="5257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ssessing teache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ing a professional growth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Arrow 15"/>
          <p:cNvSpPr/>
          <p:nvPr/>
        </p:nvSpPr>
        <p:spPr>
          <a:xfrm rot="5400000">
            <a:off x="4381560" y="4533840"/>
            <a:ext cx="838080" cy="6098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6212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Evaluation Instr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7010280" y="1447920"/>
            <a:ext cx="19051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ffecti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7"/>
          <p:cNvGrpSpPr/>
          <p:nvPr/>
        </p:nvGrpSpPr>
        <p:grpSpPr>
          <a:xfrm>
            <a:off x="1295280" y="380880"/>
            <a:ext cx="3276720" cy="3048120"/>
            <a:chOff x="1295280" y="380880"/>
            <a:chExt cx="3276720" cy="3048120"/>
          </a:xfrm>
        </p:grpSpPr>
        <p:sp>
          <p:nvSpPr>
            <p:cNvPr id="114" name="Pie 19"/>
            <p:cNvSpPr/>
            <p:nvPr/>
          </p:nvSpPr>
          <p:spPr>
            <a:xfrm>
              <a:off x="1295280" y="380880"/>
              <a:ext cx="3276720" cy="3048120"/>
            </a:xfrm>
            <a:custGeom>
              <a:avLst/>
              <a:gdLst>
                <a:gd name="textAreaLeft" fmla="*/ 959760 w 3276720"/>
                <a:gd name="textAreaRight" fmla="*/ 3277080 w 3276720"/>
                <a:gd name="textAreaTop" fmla="*/ 89280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1538345" h="1538345">
                  <a:moveTo>
                    <a:pt x="0" y="1538345"/>
                  </a:moveTo>
                  <a:lnTo>
                    <a:pt x="0" y="1538345"/>
                  </a:lnTo>
                  <a:arcTo wR="1538345" hR="1538345" stAng="-10799996" swAng="5400002"/>
                  <a:lnTo>
                    <a:pt x="1538345" y="1538345"/>
                  </a:lnTo>
                  <a:close/>
                </a:path>
              </a:pathLst>
            </a:custGeom>
            <a:solidFill>
              <a:srgbClr val="00b05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ie 12"/>
            <p:cNvSpPr/>
            <p:nvPr/>
          </p:nvSpPr>
          <p:spPr>
            <a:xfrm>
              <a:off x="2255760" y="1274760"/>
              <a:ext cx="2316240" cy="21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TEP 1: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ining and Ori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Group 8" descr=""/>
          <p:cNvPicPr/>
          <p:nvPr/>
        </p:nvPicPr>
        <p:blipFill>
          <a:blip r:embed="rId1"/>
          <a:stretch/>
        </p:blipFill>
        <p:spPr>
          <a:xfrm>
            <a:off x="4584600" y="365040"/>
            <a:ext cx="3279960" cy="3084480"/>
          </a:xfrm>
          <a:prstGeom prst="rect">
            <a:avLst/>
          </a:prstGeom>
          <a:ln w="0">
            <a:noFill/>
          </a:ln>
        </p:spPr>
      </p:pic>
      <p:pic>
        <p:nvPicPr>
          <p:cNvPr id="117" name="Group 9" descr=""/>
          <p:cNvPicPr/>
          <p:nvPr/>
        </p:nvPicPr>
        <p:blipFill>
          <a:blip r:embed="rId2"/>
          <a:stretch/>
        </p:blipFill>
        <p:spPr>
          <a:xfrm>
            <a:off x="4584600" y="3462480"/>
            <a:ext cx="3284640" cy="3035160"/>
          </a:xfrm>
          <a:prstGeom prst="rect">
            <a:avLst/>
          </a:prstGeom>
          <a:ln w="0">
            <a:noFill/>
          </a:ln>
        </p:spPr>
      </p:pic>
      <p:pic>
        <p:nvPicPr>
          <p:cNvPr id="118" name="Group 10" descr=""/>
          <p:cNvPicPr/>
          <p:nvPr/>
        </p:nvPicPr>
        <p:blipFill>
          <a:blip r:embed="rId3"/>
          <a:stretch/>
        </p:blipFill>
        <p:spPr>
          <a:xfrm>
            <a:off x="1274760" y="3486240"/>
            <a:ext cx="3316320" cy="3011400"/>
          </a:xfrm>
          <a:prstGeom prst="rect">
            <a:avLst/>
          </a:prstGeom>
          <a:ln w="0">
            <a:noFill/>
          </a:ln>
        </p:spPr>
      </p:pic>
      <p:sp>
        <p:nvSpPr>
          <p:cNvPr id="119" name="Circular Arrow 11"/>
          <p:cNvSpPr/>
          <p:nvPr/>
        </p:nvSpPr>
        <p:spPr>
          <a:xfrm>
            <a:off x="4302000" y="2971800"/>
            <a:ext cx="574920" cy="612720"/>
          </a:xfrm>
          <a:custGeom>
            <a:avLst/>
            <a:gdLst>
              <a:gd name="textAreaLeft" fmla="*/ 109440 w 574920"/>
              <a:gd name="textAreaRight" fmla="*/ 465480 w 574920"/>
              <a:gd name="textAreaTop" fmla="*/ 114840 h 612720"/>
              <a:gd name="textAreaBottom" fmla="*/ 497880 h 612720"/>
            </a:gdLst>
            <a:ahLst/>
            <a:rect l="textAreaLeft" t="textAreaTop" r="textAreaRight" b="textAreaBottom"/>
            <a:pathLst>
              <a:path w="574675" h="612775">
                <a:moveTo>
                  <a:pt x="35917" y="306387"/>
                </a:moveTo>
                <a:lnTo>
                  <a:pt x="35917" y="306387"/>
                </a:lnTo>
                <a:arcTo wR="251420" hR="270470" stAng="10800000" swAng="9822826"/>
                <a:lnTo>
                  <a:pt x="564597" y="235499"/>
                </a:lnTo>
                <a:lnTo>
                  <a:pt x="502841" y="306388"/>
                </a:lnTo>
                <a:lnTo>
                  <a:pt x="420928" y="235499"/>
                </a:lnTo>
                <a:lnTo>
                  <a:pt x="455098" y="235499"/>
                </a:lnTo>
                <a:lnTo>
                  <a:pt x="455098" y="235499"/>
                </a:lnTo>
                <a:arcTo wR="179586" hR="198636" stAng="-1374400" swAng="-9425600"/>
                <a:close/>
              </a:path>
            </a:pathLst>
          </a:custGeom>
          <a:solidFill>
            <a:srgbClr val="daede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ircular Arrow 12"/>
          <p:cNvSpPr/>
          <p:nvPr/>
        </p:nvSpPr>
        <p:spPr>
          <a:xfrm rot="10800000">
            <a:off x="4301640" y="3300120"/>
            <a:ext cx="574920" cy="662040"/>
          </a:xfrm>
          <a:custGeom>
            <a:avLst/>
            <a:gdLst>
              <a:gd name="textAreaLeft" fmla="*/ 109440 w 574920"/>
              <a:gd name="textAreaRight" fmla="*/ 465480 w 574920"/>
              <a:gd name="textAreaTop" fmla="*/ 122400 h 662040"/>
              <a:gd name="textAreaBottom" fmla="*/ 539640 h 662040"/>
            </a:gdLst>
            <a:ahLst/>
            <a:rect l="textAreaLeft" t="textAreaTop" r="textAreaRight" b="textAreaBottom"/>
            <a:pathLst>
              <a:path w="574675" h="661987">
                <a:moveTo>
                  <a:pt x="35917" y="330993"/>
                </a:moveTo>
                <a:lnTo>
                  <a:pt x="35917" y="330993"/>
                </a:lnTo>
                <a:arcTo wR="251420" hR="295076" stAng="10800000" swAng="9820062"/>
                <a:lnTo>
                  <a:pt x="566316" y="259513"/>
                </a:lnTo>
                <a:lnTo>
                  <a:pt x="502841" y="330994"/>
                </a:lnTo>
                <a:lnTo>
                  <a:pt x="422647" y="259512"/>
                </a:lnTo>
                <a:lnTo>
                  <a:pt x="457468" y="259512"/>
                </a:lnTo>
                <a:lnTo>
                  <a:pt x="457468" y="259512"/>
                </a:lnTo>
                <a:arcTo wR="179586" hR="223242" stAng="-1367391" swAng="-9432609"/>
                <a:close/>
              </a:path>
            </a:pathLst>
          </a:custGeom>
          <a:solidFill>
            <a:srgbClr val="daede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le 3"/>
          <p:cNvSpPr/>
          <p:nvPr/>
        </p:nvSpPr>
        <p:spPr>
          <a:xfrm>
            <a:off x="457200" y="304920"/>
            <a:ext cx="8229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acher Evaluation Proc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8686-775F-484B-A6F1-B4F8D54D0935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NC Professional Teaching Standards</a:t>
            </a:r>
            <a:endParaRPr b="1" lang="en-US" sz="36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1: Teachers Demonstrate Leadership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2: Teachers Establish a Respectful Environment for Diverse Population of Students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3: Teachers Know the Content They Teach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4: Teachers Facilitate Learning for Their Students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5: Teachers Reflect on Their Practice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Diagram 5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577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5:23:58Z</dcterms:created>
  <dc:creator>dpi</dc:creator>
  <dc:description/>
  <dc:language>en-US</dc:language>
  <cp:lastModifiedBy>eedwards</cp:lastModifiedBy>
  <dcterms:modified xsi:type="dcterms:W3CDTF">2011-10-06T00:49:15Z</dcterms:modified>
  <cp:revision>89</cp:revision>
  <dc:subject/>
  <dc:title>Slide 1</dc:title>
</cp:coreProperties>
</file>